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93F-12EE-4700-8F4A-91AE2B9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E3-478A-49F0-9676-5FF884A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F96-8964-4356-A9A9-382B0A47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52F-EE38-4965-AE1F-43D2C4BE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3F00-BF59-44F0-9758-058591E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9661-8D32-46F0-9252-B33759AB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9491-099B-417C-8BDE-C71A96E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9362-C0C7-42F2-95FB-2B6AA501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478-4DA8-40F8-BC8B-13C3F14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DF04-4D14-4C62-A129-421DE30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5B7F-5E08-4F87-986F-8203E23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BCC-CB59-4B1B-8EDD-C94F31C2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1580-6CDD-41BA-9543-B122C3A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FE0A-1C6B-47C6-92F1-97E791D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9DA5-0C42-43D5-AF57-95C9FB9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D715-216A-444F-8EED-9CB6F20F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1502-B41C-4F1F-AC88-4C2E4FFA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B0AD0-D208-4398-AE92-FC8D633F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F022F-896C-4139-A412-9500D4DC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B1E1E-CB81-4191-A4DA-3EBCBC3D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CA428-188D-4CEA-8B77-60405E1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48F9E-8A83-40EA-9D31-F3C6CD1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88D-7EE9-48C6-ADDC-65320B06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BD26D-ADF7-4983-8023-38934D1E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04B0E-1CA2-43A3-B985-180EB8F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989B8-F0F4-45F4-9A21-8F4EEF5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7A294-E35B-4CEE-A624-56CD2F0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FBA7F-5BB0-41B3-B995-5A38C1D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F5BA4-96FC-4527-B911-F9084386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D2738-FE0E-4248-8091-E5DE1668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2A90-970D-4935-A54B-F86F2C25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D6D8-AD6E-4EC9-8605-96E2E655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243A-9816-4074-8242-1972907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57E-A633-4A87-ACF8-ECE1B4E0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6043-9B3C-4C82-A34A-F6EB7EB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276D-C4C6-49EE-8257-DE233A7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33DA-B8D5-446B-BE21-3916F30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8793-3D12-4B89-AA18-D661B72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EC36-404E-40E3-890B-C68D60C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5441-B05F-47DE-AC11-961B9A8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889E-9DF3-4613-8E79-E809FA2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DD21-363E-4280-9D9D-258D5061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CEFF-4C79-4364-B6DC-EF08B7EA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7EC33-90D0-4CE1-9B61-AE83A48C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D19-9F91-44E2-8DEB-8220E12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9511C-ACCC-4B38-8C17-5728F3D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3816A-EE63-4C11-B6DE-CE79A209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D55FB-1243-48E2-9D4F-18A2B2B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117C9-E858-4D12-A2E7-14680D5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1F954-2D73-429B-9F10-EBE43D55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50C9C-7233-4701-A9F1-239D6DA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2D084-2F83-495D-97DE-FB47E65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A111E-4C1A-4DE2-9132-2C5341B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B72D4-6676-4423-B9E1-80804DC3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AB479-9D63-4EA4-A7F2-8FBD1371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E5C-DB9F-4A41-BF0A-F914318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D2565-F2F6-47D8-8B1A-F6C40152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87362-AFD4-4B72-81D9-DFCC824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D3477-CA93-4BB8-8C45-1F7B1FF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47F62-F560-4568-854D-A32981D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4C626-2F8E-4858-8F2A-31C3E7C8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5A07F-868D-4AC4-8D7A-DDB6B7EE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8605F-D251-49C5-9D2E-06F91171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6EA5C-7F2F-4599-87D2-52824D7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F0630-F04A-4E95-9B38-09DE852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B7F43-E048-4FA7-BD9C-44F4479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9D4-CF56-4103-ABB2-58BDE17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789F6-E194-46E8-8609-8F0F5649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B8A25-2C75-413A-AC25-40B5EB9C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8AB3D-D3D8-4F0B-B826-B1E4EB3F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8F1F2-C072-43AD-AEB6-4AA49A63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DD37B-68C3-41F7-AB12-ED1FADB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14827-91A1-43D5-BEBB-A4133B42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10487-501E-42E4-AC08-8F24DD0B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49BBC-801E-43B3-8899-B6CA1FBB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A927C-E627-4180-AB34-F2BC71B9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8807C-7B60-4C05-8D9C-1ABA611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BF8-2AEF-42A2-B6DC-E5A6BB3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89433-CB45-429F-B2ED-9786F12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2CA98-16D4-423C-90F6-4DB2BB1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4F74E-7B9F-485F-9D7E-88A92C07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F3C78-4265-415D-AA4A-0EB0994A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617B6-AF11-433A-87D1-FF419AC7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F54-4862-4652-B546-D9BF7DB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1BD-80B2-4DAD-9335-4D3EC1A4E7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24E-924A-49B4-82F7-6B4430BB40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D51E-1521-4F5B-BDE7-E5527A3374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F3A-E2B2-49C3-B679-09635E796A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791-9CE7-47F8-B6C6-651B0D096F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CD93-2D12-4552-830D-491115B1C8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CCA-2FA0-4537-B8AD-10012E3034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9292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entury Schoolbook"/>
              </a:rPr>
              <a:t>и способы его смещения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КОНЦЕНТРАЦИИ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Равновесие сместится </a:t>
            </a:r>
            <a:r>
              <a:rPr b="1" i="1" lang="ru-RU" sz="4000" spc="-1" strike="noStrike">
                <a:solidFill>
                  <a:srgbClr val="7598d9"/>
                </a:solidFill>
                <a:latin typeface="Century Schoolbook"/>
              </a:rPr>
              <a:t>ВПРАВО,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есл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Увеличить концентрацию одного из реагирующих веществ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Отводить из зоны реакции продук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ДАВЛЕНИЯ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983960"/>
            <a:ext cx="746748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лия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а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на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равновес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роявляется только при наличии в систем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азов !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428760" y="27860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вышении давления равновесие сдвигается в направлении образования веществ (исходных или продуктов) с меньшим объемо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нижении давления равновесие сдвигается в направлении образования веществ с большим объе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    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 </a:t>
            </a:r>
            <a:r>
              <a:rPr b="1" lang="en-US" sz="4300" spc="-1" strike="noStrike">
                <a:solidFill>
                  <a:srgbClr val="006600"/>
                </a:solidFill>
                <a:latin typeface="Century Schoolbook"/>
              </a:rPr>
              <a:t>             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Q </a:t>
            </a:r>
            <a:br>
              <a:rPr sz="43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4508280"/>
            <a:ext cx="727092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повышении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 давления равновесие сместится туда, где молей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меньш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(где объемов меньше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7" descr="ravnoves_01"/>
          <p:cNvPicPr/>
          <p:nvPr/>
        </p:nvPicPr>
        <p:blipFill>
          <a:blip r:embed="rId1"/>
          <a:stretch/>
        </p:blipFill>
        <p:spPr>
          <a:xfrm>
            <a:off x="324000" y="1844640"/>
            <a:ext cx="8497800" cy="270180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4211640" y="836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"/>
          <p:cNvSpPr/>
          <p:nvPr/>
        </p:nvSpPr>
        <p:spPr>
          <a:xfrm flipH="1">
            <a:off x="4211280" y="1052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85880" y="107172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1430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5786280" y="114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28400" y="1071360"/>
            <a:ext cx="3786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атализаторы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не влияют на положение равновесия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www.infinitiparts.ru/user_imgs/508563_infiniti_qx56_tuning.jpg"/>
          <p:cNvPicPr/>
          <p:nvPr/>
        </p:nvPicPr>
        <p:blipFill>
          <a:blip r:embed="rId1"/>
          <a:stretch/>
        </p:blipFill>
        <p:spPr>
          <a:xfrm>
            <a:off x="4286160" y="642960"/>
            <a:ext cx="397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entury Schoolbook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3499920"/>
            <a:ext cx="3311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БЛУКОВ И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2954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3429000" cy="2595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8"/>
          <p:cNvSpPr/>
          <p:nvPr/>
        </p:nvSpPr>
        <p:spPr>
          <a:xfrm>
            <a:off x="4643280" y="3214800"/>
            <a:ext cx="417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</a:rPr>
              <a:t>Кистяковский В.А.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714240" y="3929040"/>
            <a:ext cx="707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Электролиты в водной среде (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лавленном состоянии) распадают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положительно заряженные ион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катионы) и отрицательно заряжен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оны (анионы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NaCl       Na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+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+ Cl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3357720" y="4143240"/>
            <a:ext cx="57600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3357360" y="4357800"/>
            <a:ext cx="50292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остояние равновесия характерно для обратимых химических реакци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братимая реа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химическая реакция, которая при одних и тех же условиях может идти в прямом и в обратном напра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обратимо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называется реакция, которая идет практически до конца в одном направлении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2700"/>
            </a:b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642680"/>
            <a:ext cx="8229600" cy="44118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епень электролитической диссоциации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зависит от природ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 общему числу молекул, введенных в раствор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n331"/>
          <p:cNvPicPr/>
          <p:nvPr/>
        </p:nvPicPr>
        <p:blipFill>
          <a:blip r:embed="rId1"/>
          <a:stretch/>
        </p:blipFill>
        <p:spPr>
          <a:xfrm>
            <a:off x="324000" y="3571920"/>
            <a:ext cx="7105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Century Schoolbook"/>
              </a:rPr>
              <a:t>СИЛЬНЫЕ ЭЛЕКТРОЛИТЫ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0040" y="1142640"/>
            <a:ext cx="8229600" cy="142884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щества с ионными или сильно полярными связ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хорошо растворимые соли, сильные кислоты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B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и сильные основания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b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s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В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 flipV="1" rot="10800000">
            <a:off x="428400" y="292788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Слабые 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2960" y="3357720"/>
            <a:ext cx="74293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857240"/>
            <a:ext cx="8229600" cy="18576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Свойства ионов резко отличаются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йств нейтральных атом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яющих их элементов. Ионы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х растворах гидратиров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73580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Типы реакций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о всех обратимых реакциях скорость прямой реакции уменьшается, скорость обратной реакции возрастает до тех пор, пока обе скорости не станут равными и не установится состояние равновес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13" descr="ravnoves"/>
          <p:cNvPicPr/>
          <p:nvPr/>
        </p:nvPicPr>
        <p:blipFill>
          <a:blip r:embed="rId1"/>
          <a:stretch/>
        </p:blipFill>
        <p:spPr>
          <a:xfrm>
            <a:off x="714240" y="2357280"/>
            <a:ext cx="62866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состояние системы, в котором скорость прямой реакции равна скорости обратной реак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17"/>
          <p:cNvPicPr/>
          <p:nvPr/>
        </p:nvPicPr>
        <p:blipFill>
          <a:blip r:embed="rId1"/>
          <a:stretch/>
        </p:blipFill>
        <p:spPr>
          <a:xfrm>
            <a:off x="857160" y="2000160"/>
            <a:ext cx="7188120" cy="22147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"/>
          <p:cNvSpPr/>
          <p:nvPr/>
        </p:nvSpPr>
        <p:spPr>
          <a:xfrm>
            <a:off x="785880" y="435780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центрации всех веществ в состоянии равновесия (равновесные концентрации) постоян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имическое равновесие имеет динамический характер. Это значит, что и прямая и обратная реакции при равновесии не прекращ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42560" y="428400"/>
            <a:ext cx="4071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мещение равновесия в нужном направлении достигается изменением условий реакции (</a:t>
            </a: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-Если на систему, находящуюся в состоянии равновесия, оказать внешнее воздействие, то система перейдет в другое состояние так, чтобы уменьшить эффект внешнего воздействия.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SHATELIE"/>
          <p:cNvPicPr/>
          <p:nvPr/>
        </p:nvPicPr>
        <p:blipFill>
          <a:blip r:embed="rId1"/>
          <a:stretch/>
        </p:blipFill>
        <p:spPr>
          <a:xfrm>
            <a:off x="4572000" y="500040"/>
            <a:ext cx="4000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ля одностадийной обратимой реакци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 равновесии выражения для скоростей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 обратной реакци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меют вид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де [a], [b], [c] и [d] - равновесные молярные концентрации веществ a, b, c и d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a,b,c и d - соответствующие стехиометрические коэффициенты (при условии, что реакция идет в одну стадию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k1 и k2 -коэффициенты пропорциональности, называемые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константами скорос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1" descr="Равновесная реакция"/>
          <p:cNvPicPr/>
          <p:nvPr/>
        </p:nvPicPr>
        <p:blipFill>
          <a:blip r:embed="rId1"/>
          <a:stretch/>
        </p:blipFill>
        <p:spPr>
          <a:xfrm>
            <a:off x="1500120" y="857160"/>
            <a:ext cx="4613400" cy="507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Скорости прямой и обратной реакций"/>
          <p:cNvPicPr/>
          <p:nvPr/>
        </p:nvPicPr>
        <p:blipFill>
          <a:blip r:embed="rId2"/>
          <a:stretch/>
        </p:blipFill>
        <p:spPr>
          <a:xfrm>
            <a:off x="785880" y="2500200"/>
            <a:ext cx="78580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выделением теплоты, называются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entury Schoolbook"/>
              </a:rPr>
              <a:t>экз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поглощением теплоты, называются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энд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ждой обратимой реакции одно из направлений отвечает экзотермическому процессу, а другое - эндотермическому.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5" descr="r23"/>
          <p:cNvPicPr/>
          <p:nvPr/>
        </p:nvPicPr>
        <p:blipFill>
          <a:blip r:embed="rId1"/>
          <a:stretch/>
        </p:blipFill>
        <p:spPr>
          <a:xfrm>
            <a:off x="324000" y="2276640"/>
            <a:ext cx="8569080" cy="998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бы сместить равновес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для экзотермической реакции)---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нужно понизить температу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для эндотермической---наоборот,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повысить температу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05:48:41Z</dcterms:modified>
  <cp:revision>30</cp:revision>
  <dc:subject/>
  <dc:title>PowerPoint Presentation</dc:title>
</cp:coreProperties>
</file>